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5.jpeg" ContentType="image/jpeg"/>
  <Override PartName="/ppt/media/image18.gif" ContentType="image/gif"/>
  <Override PartName="/ppt/media/image13.jpeg" ContentType="image/jpeg"/>
  <Override PartName="/ppt/media/image33.wmf" ContentType="image/x-wmf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gif" ContentType="image/gif"/>
  <Override PartName="/ppt/media/image26.gif" ContentType="image/gif"/>
  <Override PartName="/ppt/media/image20.jpeg" ContentType="image/jpeg"/>
  <Override PartName="/ppt/media/image29.png" ContentType="image/png"/>
  <Override PartName="/ppt/media/image32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3D6F-D198-42C2-9C5C-7E2414E7A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C260-E8F2-425E-82CA-F515EDA1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EDB2-66B1-49A9-90A7-D6E96C8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D810-5478-470D-84FC-BA5E889A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C75D-52F6-4DE0-8AB4-8BA4BACD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2F55-3558-4EB3-A33F-12789C3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2139B-9F0B-49ED-BA85-B780A96B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D150-BCCD-4C1E-89C0-9C2CC00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26A0-0784-482B-933C-EFDBF6D8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245E-7758-4368-A6A0-153062D9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783B-4BF0-45B0-85F3-4D220ADE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F821-C799-4641-A68C-1B2E361F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AE1D-DE9D-435B-9D00-12AB857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3B11-7B01-47DE-A412-2064D886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41C8B-7A63-4C47-B6C8-023D21D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2B88-5228-4DCE-9F57-5941F8C8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96986-A0B1-4D8E-8B25-15A5539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1F1B-AEB9-483D-98AA-32392D0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AAE1-F13B-473D-BFA8-8CCDAFD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CEC1D-391C-4009-A335-FEA4B187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3CF7-05F4-4B73-9F22-DE251A4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B91F-5630-4289-BBEB-A9C686D8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FCD-C616-4B5E-914B-68A21483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F33-589F-47BE-9078-E9A53F1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9D2-05B3-4139-A536-B7649E1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9C7-A6AF-4A2D-A705-D4DA62E4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1CE-3F6F-40C0-9816-66BED204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B7F-3CC8-4EC9-B4FF-6263642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D13-F56B-4B26-BD9E-35B1D0F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51E-40B9-497C-AB87-A72AE03D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12-D7A9-4C60-91F6-21C5A585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9AD-6F83-4A69-A3B0-BC8ACC2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277-5132-49D4-AD23-5B2F4B64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E44-3DFE-4095-8109-9CE5B1CF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E417-B3D9-48D6-8F3C-6BFB3680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0E4-9B8B-450F-91B6-FA592EFE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E91-21F1-4410-8818-C1157E23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7ADA-34F0-4217-8080-718B4467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1BBA-9F11-4801-9FA9-1F4C241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8C49-931C-4F34-A7D9-AE56B93C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2F82-4A51-469F-9A16-4E783CA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8AB2-5AF7-4F3D-A3E2-290EC4B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2FA5-984E-4140-84FC-29D50AB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CDBC-1AE1-4A9B-9DB3-EBA1A8A3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436F-4F9E-4981-B964-AA32D84A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AFF1-A1C9-400C-BA9E-D290160E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641FF-DF7C-4754-9870-2A72D210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01D3-2166-4194-984F-B3943039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2A86-9D97-410B-8E9A-2504016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www.nordridesign.com/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www.nordri.net/" TargetMode="External"/><Relationship Id="rId10" Type="http://schemas.openxmlformats.org/officeDocument/2006/relationships/hyperlink" Target="http://www.nordridesign.com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creativecommons.org/licenses/by-nc/2.5/cn/legalcode" TargetMode="External"/><Relationship Id="rId13" Type="http://schemas.openxmlformats.org/officeDocument/2006/relationships/hyperlink" Target="http://www.nordridesign.cn/" TargetMode="External"/><Relationship Id="rId14" Type="http://schemas.openxmlformats.org/officeDocument/2006/relationships/hyperlink" Target="http://www.nordri.net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9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25.xml"/><Relationship Id="rId20" Type="http://schemas.openxmlformats.org/officeDocument/2006/relationships/slideLayout" Target="../slideLayouts/slideLayout26.xml"/><Relationship Id="rId21" Type="http://schemas.openxmlformats.org/officeDocument/2006/relationships/slideLayout" Target="../slideLayouts/slideLayout27.xml"/><Relationship Id="rId22" Type="http://schemas.openxmlformats.org/officeDocument/2006/relationships/slideLayout" Target="../slideLayouts/slideLayout28.xml"/><Relationship Id="rId23" Type="http://schemas.openxmlformats.org/officeDocument/2006/relationships/slideLayout" Target="../slideLayouts/slideLayout29.xml"/><Relationship Id="rId24" Type="http://schemas.openxmlformats.org/officeDocument/2006/relationships/slideLayout" Target="../slideLayouts/slideLayout30.xml"/><Relationship Id="rId25" Type="http://schemas.openxmlformats.org/officeDocument/2006/relationships/slideLayout" Target="../slideLayouts/slideLayout31.xml"/><Relationship Id="rId26" Type="http://schemas.openxmlformats.org/officeDocument/2006/relationships/slideLayout" Target="../slideLayouts/slideLayout32.xml"/><Relationship Id="rId27" Type="http://schemas.openxmlformats.org/officeDocument/2006/relationships/slideLayout" Target="../slideLayouts/slideLayout33.xml"/><Relationship Id="rId28" Type="http://schemas.openxmlformats.org/officeDocument/2006/relationships/slideLayout" Target="../slideLayouts/slideLayout34.xml"/><Relationship Id="rId29" Type="http://schemas.openxmlformats.org/officeDocument/2006/relationships/slideLayout" Target="../slideLayouts/slideLayout35.xml"/><Relationship Id="rId3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图片7.png"/>
          <p:cNvPicPr/>
          <p:nvPr/>
        </p:nvPicPr>
        <p:blipFill>
          <a:blip r:embed="rId4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图片4.png"/>
          <p:cNvPicPr/>
          <p:nvPr/>
        </p:nvPicPr>
        <p:blipFill>
          <a:blip r:embed="rId5"/>
          <a:stretch/>
        </p:blipFill>
        <p:spPr>
          <a:xfrm>
            <a:off x="0" y="0"/>
            <a:ext cx="326700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TextBox 9" descr=""/>
          <p:cNvPicPr/>
          <p:nvPr/>
        </p:nvPicPr>
        <p:blipFill>
          <a:blip r:embed="rId6"/>
          <a:stretch/>
        </p:blipFill>
        <p:spPr>
          <a:xfrm>
            <a:off x="6334200" y="5522760"/>
            <a:ext cx="2260440" cy="4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7CB3-F75C-4769-9B25-DD56A5434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90AE-5B01-4624-84A3-19B4974086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>
            <a:hlinkClick r:id="rId3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4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>
            <a:hlinkClick r:id="rId5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6" descr="powerbar_update_light"/>
          <p:cNvPicPr/>
          <p:nvPr/>
        </p:nvPicPr>
        <p:blipFill>
          <a:blip r:embed="rId6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7" descr="powerstore"/>
          <p:cNvPicPr/>
          <p:nvPr/>
        </p:nvPicPr>
        <p:blipFill>
          <a:blip r:embed="rId7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8" descr="tm_logo"/>
          <p:cNvPicPr/>
          <p:nvPr/>
        </p:nvPicPr>
        <p:blipFill>
          <a:blip r:embed="rId8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>
            <a:hlinkClick r:id="rId9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>
            <a:hlinkClick r:id="rId10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>
            <a:hlinkClick r:id="rId11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>
            <a:hlinkClick r:id="rId12"/>
          </p:cNvPr>
          <p:cNvSpPr/>
          <p:nvPr/>
        </p:nvSpPr>
        <p:spPr>
          <a:xfrm>
            <a:off x="2177640" y="3859920"/>
            <a:ext cx="34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>
            <a:hlinkClick r:id="rId13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>
            <a:hlinkClick r:id="rId14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>
            <a:hlinkClick r:id="rId15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0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cc"/>
          <p:cNvPicPr/>
          <p:nvPr/>
        </p:nvPicPr>
        <p:blipFill>
          <a:blip r:embed="rId17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5" descr="tm_logo"/>
          <p:cNvPicPr/>
          <p:nvPr/>
        </p:nvPicPr>
        <p:blipFill>
          <a:blip r:embed="rId18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9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9"/>
    <p:sldLayoutId id="2147483676" r:id="rId20"/>
    <p:sldLayoutId id="2147483677" r:id="rId21"/>
    <p:sldLayoutId id="2147483678" r:id="rId22"/>
    <p:sldLayoutId id="2147483679" r:id="rId23"/>
    <p:sldLayoutId id="2147483680" r:id="rId24"/>
    <p:sldLayoutId id="2147483681" r:id="rId25"/>
    <p:sldLayoutId id="2147483682" r:id="rId26"/>
    <p:sldLayoutId id="2147483683" r:id="rId27"/>
    <p:sldLayoutId id="2147483684" r:id="rId28"/>
    <p:sldLayoutId id="2147483685" r:id="rId29"/>
    <p:sldLayoutId id="2147483686" r:id="rId3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17.jpg"/>
          <p:cNvPicPr/>
          <p:nvPr/>
        </p:nvPicPr>
        <p:blipFill>
          <a:blip r:embed="rId3"/>
          <a:stretch/>
        </p:blipFill>
        <p:spPr>
          <a:xfrm>
            <a:off x="0" y="0"/>
            <a:ext cx="7142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7786800" y="6357960"/>
            <a:ext cx="1143000" cy="39888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745-1AEA-49DF-87A3-06ED5F830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E4B0-DA61-465A-91BE-CEB975392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96507503&amp;tn=baiduimagedetail&amp;word=&#26465;&#20214;&#21453;&#23556;&amp;in=1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g.tc.cn/hq/shengwuzu/kejian/gongyong/all.htm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5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20369550&amp;tn=baiduimagedetail&amp;word=&#36855;&#31548;&#23454;&#39564;&amp;in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p.com.cn/200406/ca464932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节 学   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内容：学习的类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u=2163676903,1919929309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00200"/>
            <a:ext cx="7086600" cy="48769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feijiatia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57200"/>
            <a:ext cx="7238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tiaojianfanshejiancheng"/>
          <p:cNvPicPr/>
          <p:nvPr/>
        </p:nvPicPr>
        <p:blipFill>
          <a:blip r:embed="rId1"/>
          <a:stretch/>
        </p:blipFill>
        <p:spPr>
          <a:xfrm>
            <a:off x="838080" y="1066680"/>
            <a:ext cx="7086600" cy="54864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典条件反射的建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食物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引起狗的唾液分泌（无条件反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铃声（条件刺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与食物（无条件刺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多次结合 、同时出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现在铃声（条件刺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单独出现可以引起类似的唾液分泌反应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" descr="W020100827857630715047"/>
          <p:cNvPicPr/>
          <p:nvPr/>
        </p:nvPicPr>
        <p:blipFill>
          <a:blip r:embed="rId1"/>
          <a:stretch/>
        </p:blipFill>
        <p:spPr>
          <a:xfrm>
            <a:off x="685800" y="3429000"/>
            <a:ext cx="7620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婴儿的条件反射学习：宝宝出生几天，妈妈把奶头塞进宝宝的嘴里，宝宝就开始吮吸，这是一种本能，也是一种无条件反射活动。几个星期以后，他一看见妈妈，就做吮吸动作。这表明，他已懂得，妈妈的出现，预示着有好东西给他吃。在这种学习中，反射运用（吮吸）最终会与一般不能引起这种的刺激因素（妈妈形象）联系起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有的学习都是联系的形成，而联系的形成就是思想、思维、知识”。“显然，我们的一切培育、学习和训练，一切可能的习惯都是很长系列的条件的反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7010280" y="5715000"/>
            <a:ext cx="609840" cy="1143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u=2066823717,3639981755&amp;gp=2"/>
          <p:cNvPicPr/>
          <p:nvPr/>
        </p:nvPicPr>
        <p:blipFill>
          <a:blip r:embed="rId1"/>
          <a:stretch/>
        </p:blipFill>
        <p:spPr>
          <a:xfrm>
            <a:off x="457200" y="533520"/>
            <a:ext cx="4038480" cy="57909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4800600" y="1866960"/>
            <a:ext cx="4343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斯金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F.Skin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904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990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美国心理学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曾担任美国印第安大学、哈佛大学的教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pic2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操作条件反射又叫工具条件反射。在操作条件反射中的学习，也就是操纵杆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与压杆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之间形成了固定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述实验中的白鼠按压杠杆，这种反应就是由有机体自发发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可以概括为：如果一个操作发生后，紧接着给一个强化刺激，那么其强度就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婴幼儿的操作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人常常用这种方式向婴幼儿传授各种行为、动作。例如，指导几个月的婴儿用手指点自己的五官，使他认识自己；训练婴幼儿正常大小便；教他们说话；一直到指导他们在学校里如何循规蹈矩地做一个好学生等等。宝宝做对了，大人立刻给予赞扬，几次重复后，宝宝就学会了各种动作和知识。在学习过程中，肯定、赞扬等强化手段起着重要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两种条件反射的区别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经典条件反射中，强化伴随条件刺激物，但它要与条件刺激物同时或稍后出现，这样条件反射才能形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操作条件反射中，强化物同反应相结合，也就是有机体必须先作出适当的反应，然后才能得到强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学习：在经验的作用下而发生的相对持久的行为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图片 3" descr="a8014c086e061d957a99a42571f40ad163d9cad4.jpg"/>
          <p:cNvPicPr/>
          <p:nvPr/>
        </p:nvPicPr>
        <p:blipFill>
          <a:blip r:embed="rId1"/>
          <a:stretch/>
        </p:blipFill>
        <p:spPr>
          <a:xfrm>
            <a:off x="609480" y="2971800"/>
            <a:ext cx="3121200" cy="20811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4" descr="52f58PICXip_1024.jpg"/>
          <p:cNvPicPr/>
          <p:nvPr/>
        </p:nvPicPr>
        <p:blipFill>
          <a:blip r:embed="rId2"/>
          <a:stretch/>
        </p:blipFill>
        <p:spPr>
          <a:xfrm>
            <a:off x="3809880" y="4573440"/>
            <a:ext cx="4648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婴儿的模仿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婴幼儿的许多动作和行为是通过观察别人怎么做而加以模仿学得的。儿童心理学家穆尔和梅尔佐夫运用科学实验手段研究发现，出生１２～２１天的新生儿就能模仿成人的面部表情，如伸舌、张口、翘嘴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6019920" y="5562720"/>
            <a:ext cx="1752480" cy="5331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社会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杜拉认为，人类学习的实质应当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观察学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因为人类具有认知能力，能够更多地得益于经验，因此，大部分的人类行为是通过对榜样的观察而习得的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社会学习理论将人类的学习分为两大类：一是直接经验的学习，二是间接经验的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教育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杜拉认为学习行为可由观察模仿而产生，此理论符合“身教重于言教”的原则，因而被教育上用来解释学习行为自律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学习为教育上经常举办的示范教学、观摩教学以及教学演示等措施，提供了理论依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学习的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试误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典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操作性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会学习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047760" y="228600"/>
            <a:ext cx="6095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三、行为塑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斯金纳率先提出了强化理论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言之就是用令入愉快的刺激去强化正当的行为 ，用令入厌恶的刺激去纠正不正当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01000000000000119080706248955_s"/>
          <p:cNvPicPr/>
          <p:nvPr/>
        </p:nvPicPr>
        <p:blipFill>
          <a:blip r:embed="rId1"/>
          <a:stretch/>
        </p:blipFill>
        <p:spPr>
          <a:xfrm>
            <a:off x="0" y="1219320"/>
            <a:ext cx="30481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的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强化与负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级强化与二级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续强化与间断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强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04920" y="198072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强化，就是奖励那些符合组织目标的行为，以使这些行为得到进一步加强以至重复出现的刺激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表扬、奖励、认可、赞赏、改善工作关系或提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~FIRA~[(]K23@(N3YCCE6)9"/>
          <p:cNvPicPr/>
          <p:nvPr/>
        </p:nvPicPr>
        <p:blipFill>
          <a:blip r:embed="rId2"/>
          <a:stretch/>
        </p:blipFill>
        <p:spPr>
          <a:xfrm>
            <a:off x="457200" y="1905120"/>
            <a:ext cx="4103640" cy="3944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正强化激励的手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以“冠名”来激励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员工的“名字”明明一个小发明、小工具、一个作业程序，或一个优秀几台、生产线段，如“某某工作法”、“某某作业程序”、“某某换模支架”，对员工的激励作用是很大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以“认同”方式激励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员工加入时举办相应的欢迎仪式，员工考核晋升时举办相应的“发证”仪式，以及员工的生日，员工结婚、得子，各级领导给予相应的表扬、肯定，甚至一个赞许的目光，伸出大拇指，都能够成为对员工的鼓舞和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u=2050238313,1339290747&amp;fm=0&amp;gp=0"/>
          <p:cNvPicPr/>
          <p:nvPr/>
        </p:nvPicPr>
        <p:blipFill>
          <a:blip r:embed="rId2"/>
          <a:stretch/>
        </p:blipFill>
        <p:spPr>
          <a:xfrm>
            <a:off x="6553080" y="0"/>
            <a:ext cx="1524240" cy="17892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正强化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980720"/>
            <a:ext cx="854064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海尔集团开始宣传“人人是人才”时，员工反应平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他们想：“我又没受过高等教育，当个小工人算什么人才？”但是当海尔把一个普通工人发明的一项技术革新成果，以这位工人的名字命名时，在工人中很快就兴起了技术革新之风。比如工人李启明发明的焊枪被命名为“启明焊枪”，杨晓玲发明的扳手被命名为“晓玲扳手”。这一措施大大激发了普通员工创新的激情，后来不断有新的命名工具出现，员工的荣誉感得到极大的满足。对员工创造价值的认可，是对他们最好的激励，及时的激励能让员工觉得工作起来有盼头，有奔头，进而也能激发出员工更大的创造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激励招术：让员工敲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1312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台湾有一家公司，在公司的大厅里，装置了一个大铜锣，只要业绩突破新台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的人，就可以去敲它一响，突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则敲它两响，依次类推上去。该公司的办公室，就是紧临着大厅，所以，只要这个铜锣被敲，它的声音马上会传入办公室内，也等于是告知全办公室内的人，有人的业绩突破了百万大关了，当这位敲锣的同仁步入办公室的同时，所有的人又都会起立鼓掌，给予他英雄式的欢呼。据该公司管理部门有关人员表示，这种被大家鼓掌欢呼的场面，是多么有面子的一件事，当然，谁都希望自己是下一个敲锣者，也接受大家的欢呼，不过，想要敲响它，首先是把业绩给做到，这正是该公司装置这个大铜锣的目的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学习的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试误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经典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操作性条件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社会学习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负强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鳄鱼"/>
          <p:cNvPicPr/>
          <p:nvPr/>
        </p:nvPicPr>
        <p:blipFill>
          <a:blip r:embed="rId2"/>
          <a:stretch/>
        </p:blipFill>
        <p:spPr>
          <a:xfrm>
            <a:off x="0" y="205740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41840" y="1752480"/>
            <a:ext cx="3921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负强化是通过是通过惩罚那些不符合组织目标的行为，以使这些行为削弱甚至消失，从而保证组织目标的实现不受干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：批评、处分、罚款、扣分、降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5" descr="未命名他v"/>
          <p:cNvPicPr/>
          <p:nvPr/>
        </p:nvPicPr>
        <p:blipFill>
          <a:blip r:embed="rId3"/>
          <a:stretch/>
        </p:blipFill>
        <p:spPr>
          <a:xfrm>
            <a:off x="2362320" y="2057400"/>
            <a:ext cx="223200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负强化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学生，做作业速度非常慢，常常拖拖拉拉，他爸爸妈妈对于孩子这个缺点无可奈何。但是孩子又非常喜欢看电视，常常因为看电视而影响做作业的质量和速度。结合这两点，家长决定以看电视作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惩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刺激物，如果孩子不能在规定时间内完成作业，就不能看电视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坚持一段时间后，发现孩子不再拖拉，写作业的速度有所提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的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级强化：食物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级强化：尊严、赞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六角星 5"/>
          <p:cNvSpPr/>
          <p:nvPr/>
        </p:nvSpPr>
        <p:spPr>
          <a:xfrm>
            <a:off x="5943600" y="4191120"/>
            <a:ext cx="3048120" cy="2209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组织中的强化物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化的程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续强化：每次理想行为出现时，都给予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断强化：选取理想行为中的一部分进行强化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波形 3"/>
          <p:cNvSpPr/>
          <p:nvPr/>
        </p:nvSpPr>
        <p:spPr>
          <a:xfrm>
            <a:off x="5791320" y="4952880"/>
            <a:ext cx="2209680" cy="990720"/>
          </a:xfrm>
          <a:custGeom>
            <a:avLst/>
            <a:gdLst>
              <a:gd name="textAreaLeft" fmla="*/ 0 w 2209680"/>
              <a:gd name="textAreaRight" fmla="*/ 2210040 w 2209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哪个对你们更管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W020100827857631172766"/>
          <p:cNvPicPr/>
          <p:nvPr/>
        </p:nvPicPr>
        <p:blipFill>
          <a:blip r:embed="rId1"/>
          <a:stretch/>
        </p:blipFill>
        <p:spPr>
          <a:xfrm>
            <a:off x="1143000" y="2133720"/>
            <a:ext cx="6381720" cy="2403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3"/>
          <p:cNvSpPr/>
          <p:nvPr/>
        </p:nvSpPr>
        <p:spPr>
          <a:xfrm>
            <a:off x="685800" y="10666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费厄斯特和斯金纳对间断强化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" descr="QQ截图20120901191059"/>
          <p:cNvPicPr/>
          <p:nvPr/>
        </p:nvPicPr>
        <p:blipFill>
          <a:blip r:embed="rId1"/>
          <a:stretch/>
        </p:blipFill>
        <p:spPr>
          <a:xfrm>
            <a:off x="457200" y="0"/>
            <a:ext cx="79246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续强化和间断强化对行为的影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QQ截图20120901191006"/>
          <p:cNvPicPr/>
          <p:nvPr/>
        </p:nvPicPr>
        <p:blipFill>
          <a:blip r:embed="rId1"/>
          <a:stretch/>
        </p:blipFill>
        <p:spPr>
          <a:xfrm>
            <a:off x="762120" y="11430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large_CxHb_4258l132091"/>
          <p:cNvPicPr/>
          <p:nvPr/>
        </p:nvPicPr>
        <p:blipFill>
          <a:blip r:embed="rId1"/>
          <a:stretch/>
        </p:blipFill>
        <p:spPr>
          <a:xfrm>
            <a:off x="0" y="0"/>
            <a:ext cx="9142560" cy="688644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与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中的奖励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中的惩罚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确使用奖励和惩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强化方法，降低缺勤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发培训计划，建立导师负责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体行为的自我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流程图: 资料带 4"/>
          <p:cNvSpPr/>
          <p:nvPr/>
        </p:nvSpPr>
        <p:spPr>
          <a:xfrm>
            <a:off x="914400" y="4572000"/>
            <a:ext cx="3505320" cy="17524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说说你知道的奖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与惩罚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国有一群小孩喜欢在一个地方踢足球，但旁边有个老头特别不喜欢他们在那踢球，所以他想了个办法，第一天给他们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十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说喜欢看他们踢球，然他们一直踢，过几天就给他们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五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原因是自己的买卖不是太好，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没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。但小孩还是很高兴，继续踢。等再过几天，那老头不给他们钱了但还是告诉他们希望他们继续在那踢球，可是那一群小孩却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叶圣陶的四粒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粒糖： “这颗糖是奖励给你的。奖励你很守时，老师请你来，你就来了，没有磨蹭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粒糖：“这颗糖是奖励你对我的尊重，老师叫你来你就来了，没有违拗，所以我要奖励你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粒糖：“是奖励你有正义感。刚才我调查过了，你是因为那个男孩欺负别的女孩子才对他举起砖头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粒糖：“你真是个知错就改的好孩子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强化与负强化关系密切，都是用以增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良好行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生率的强化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管理者的激励手法，是没有一定的标准模式可寻的，只要它能发挥鼓舞士气的作用，就是一种好的激励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4"/>
          <p:cNvSpPr txBox="1"/>
          <p:nvPr/>
        </p:nvSpPr>
        <p:spPr>
          <a:xfrm>
            <a:off x="1905120" y="228600"/>
            <a:ext cx="287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总结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516" name="Picture 5" descr="MC900240451[1]"/>
          <p:cNvPicPr/>
          <p:nvPr/>
        </p:nvPicPr>
        <p:blipFill>
          <a:blip r:embed="rId1"/>
          <a:stretch/>
        </p:blipFill>
        <p:spPr>
          <a:xfrm>
            <a:off x="-152280" y="1522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MC900437537[1]"/>
          <p:cNvPicPr/>
          <p:nvPr/>
        </p:nvPicPr>
        <p:blipFill>
          <a:blip r:embed="rId2"/>
          <a:stretch/>
        </p:blipFill>
        <p:spPr>
          <a:xfrm>
            <a:off x="6858000" y="4657680"/>
            <a:ext cx="187632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u=1441762430,1048320586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迷笼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catcage2"/>
          <p:cNvPicPr/>
          <p:nvPr/>
        </p:nvPicPr>
        <p:blipFill>
          <a:blip r:embed="rId1"/>
          <a:stretch/>
        </p:blipFill>
        <p:spPr>
          <a:xfrm>
            <a:off x="533520" y="609480"/>
            <a:ext cx="7924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误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桑代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来，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学习即联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心即人的联结系统”，“学习是结合，人之所以长于学习，即因他形成这许多结合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猫学习打开疑难笼的过程中，经过多次尝试与失败，在复杂的刺激情境中发现门闩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为打开笼门的刺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与开门反应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形成了巩固的联系，这时学习便产生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>
            <a:hlinkClick r:id="rId1" action="ppaction://hlinksldjump"/>
          </p:cNvPr>
          <p:cNvSpPr/>
          <p:nvPr/>
        </p:nvSpPr>
        <p:spPr>
          <a:xfrm>
            <a:off x="7315200" y="5791320"/>
            <a:ext cx="762120" cy="4572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条件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经常失眠的拳击运动员找到医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运动员：我经常失眠，不知道有什么办法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医生：告诉你个偏方，在睡觉前数数，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行了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运动员：这个办法我试过，但每当数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我就会从床上跳起来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巴甫洛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巴甫洛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伊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彼德罗维奇，俄国生理学家、心理学家、医师、高级神经活动学说的创始人，高级神经活动生理学的奠基人。条件反射理论的建构者，也是传统心理学领域之外而对心理学发展影响最大的人物之一，曾荣获诺贝尔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3" descr="u=2909593146,2361171704&amp;fm=26&amp;gp=0.jpg"/>
          <p:cNvPicPr/>
          <p:nvPr/>
        </p:nvPicPr>
        <p:blipFill>
          <a:blip r:embed="rId1"/>
          <a:stretch/>
        </p:blipFill>
        <p:spPr>
          <a:xfrm>
            <a:off x="5257800" y="175248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pic_784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0:30:25Z</dcterms:created>
  <dc:creator>wangxinhong</dc:creator>
  <dc:description/>
  <dc:language>en-US</dc:language>
  <cp:lastModifiedBy>XiaZaiMa.COM</cp:lastModifiedBy>
  <dcterms:modified xsi:type="dcterms:W3CDTF">2022-10-17T07:25:3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